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1084572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079280" y="5717880"/>
            <a:ext cx="1084572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5292360" cy="610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636600" y="2526840"/>
            <a:ext cx="5292360" cy="610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1079280" y="151920"/>
            <a:ext cx="10845720" cy="97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636600" y="2526840"/>
            <a:ext cx="5292360" cy="610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1079280" y="571788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5292360" cy="610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63660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636600" y="571788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63660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079280" y="5717880"/>
            <a:ext cx="1084572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1084572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1079280" y="5717880"/>
            <a:ext cx="1084572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63660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079280" y="571788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6636600" y="571788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746240" y="252684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8413200" y="252684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1079280" y="571788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4746240" y="571788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8413200" y="571788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660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79280" y="571788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6600" y="571788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1079280" y="2526840"/>
            <a:ext cx="10845720" cy="61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10845720" cy="610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5292360" cy="610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6636600" y="2526840"/>
            <a:ext cx="5292360" cy="610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1079280" y="151920"/>
            <a:ext cx="10845720" cy="97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636600" y="2526840"/>
            <a:ext cx="5292360" cy="610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1079280" y="571788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5292360" cy="610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663660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636600" y="571788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663660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1079280" y="5717880"/>
            <a:ext cx="1084572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1084572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1079280" y="5717880"/>
            <a:ext cx="1084572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63660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1079280" y="571788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6636600" y="571788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252684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413200" y="252684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079280" y="571788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746240" y="571788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413200" y="571788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746240" y="252684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8413200" y="252684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1079280" y="571788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4746240" y="571788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8413200" y="571788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1079280" y="2526840"/>
            <a:ext cx="10845720" cy="61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10845720" cy="610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5292360" cy="610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6636600" y="2526840"/>
            <a:ext cx="5292360" cy="610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1079280" y="151920"/>
            <a:ext cx="10845720" cy="97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6636600" y="2526840"/>
            <a:ext cx="5292360" cy="610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1079280" y="571788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5292360" cy="610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663660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636600" y="571788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663660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1079280" y="5717880"/>
            <a:ext cx="1084572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1084572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1079280" y="5717880"/>
            <a:ext cx="1084572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663660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1079280" y="571788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6636600" y="571788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746240" y="252684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8413200" y="252684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1079280" y="571788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4746240" y="571788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8413200" y="571788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1079280" y="2526840"/>
            <a:ext cx="10845720" cy="61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10845720" cy="610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5292360" cy="610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6636600" y="2526840"/>
            <a:ext cx="5292360" cy="610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1079280" y="151920"/>
            <a:ext cx="10845720" cy="97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6636600" y="2526840"/>
            <a:ext cx="5292360" cy="610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1079280" y="571788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079280" y="2526840"/>
            <a:ext cx="10845720" cy="61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5292360" cy="610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663660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636600" y="571788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663660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1079280" y="5717880"/>
            <a:ext cx="1084572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1084572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1079280" y="5717880"/>
            <a:ext cx="1084572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663660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1079280" y="571788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6636600" y="571788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746240" y="252684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8413200" y="252684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1079280" y="571788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4746240" y="571788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8413200" y="571788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1079280" y="2526840"/>
            <a:ext cx="10845720" cy="61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10845720" cy="610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5292360" cy="610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636600" y="2526840"/>
            <a:ext cx="5292360" cy="610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10845720" cy="610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1079280" y="151920"/>
            <a:ext cx="10845720" cy="97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636600" y="2526840"/>
            <a:ext cx="5292360" cy="610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1079280" y="571788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5292360" cy="610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63660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636600" y="571788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63660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1079280" y="5717880"/>
            <a:ext cx="1084572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1084572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1079280" y="5717880"/>
            <a:ext cx="1084572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663660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1079280" y="571788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6636600" y="571788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746240" y="252684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8413200" y="252684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1079280" y="571788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4746240" y="571788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8413200" y="571788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5292360" cy="610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36600" y="2526840"/>
            <a:ext cx="5292360" cy="610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079280" y="151920"/>
            <a:ext cx="10845720" cy="97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6600" y="2526840"/>
            <a:ext cx="5292360" cy="610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079280" y="571788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079280" y="2526840"/>
            <a:ext cx="10845720" cy="61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5292360" cy="610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3660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36600" y="571788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3660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079280" y="5717880"/>
            <a:ext cx="1084572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1084572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079280" y="5717880"/>
            <a:ext cx="1084572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3660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79280" y="571788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36600" y="571788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46240" y="252684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413200" y="252684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079280" y="571788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746240" y="571788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413200" y="571788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079280" y="2526840"/>
            <a:ext cx="10845720" cy="61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10845720" cy="610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5292360" cy="610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636600" y="2526840"/>
            <a:ext cx="5292360" cy="610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10845720" cy="610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079280" y="151920"/>
            <a:ext cx="10845720" cy="97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36600" y="2526840"/>
            <a:ext cx="5292360" cy="610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079280" y="571788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5292360" cy="610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63660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636600" y="571788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63660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079280" y="5717880"/>
            <a:ext cx="1084572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1084572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079280" y="5717880"/>
            <a:ext cx="1084572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63660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079280" y="571788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636600" y="571788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46240" y="252684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413200" y="252684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079280" y="571788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746240" y="571788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8413200" y="571788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079280" y="2526840"/>
            <a:ext cx="10845720" cy="61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10845720" cy="610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5292360" cy="610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6600" y="2526840"/>
            <a:ext cx="5292360" cy="610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5292360" cy="610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636600" y="2526840"/>
            <a:ext cx="5292360" cy="610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1079280" y="151920"/>
            <a:ext cx="10845720" cy="97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636600" y="2526840"/>
            <a:ext cx="5292360" cy="610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079280" y="571788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5292360" cy="610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663660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636600" y="571788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63660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079280" y="5717880"/>
            <a:ext cx="1084572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1084572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1079280" y="5717880"/>
            <a:ext cx="1084572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63660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79280" y="571788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6636600" y="571788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46240" y="252684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413200" y="252684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1079280" y="571788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4746240" y="571788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8413200" y="571788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079280" y="2526840"/>
            <a:ext cx="10845720" cy="61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10845720" cy="610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5292360" cy="610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6636600" y="2526840"/>
            <a:ext cx="5292360" cy="610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1079280" y="151920"/>
            <a:ext cx="10845720" cy="97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636600" y="2526840"/>
            <a:ext cx="5292360" cy="610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1079280" y="571788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5292360" cy="610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63660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636600" y="571788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63660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1079280" y="5717880"/>
            <a:ext cx="1084572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1084572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1079280" y="5717880"/>
            <a:ext cx="1084572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63660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1079280" y="571788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6636600" y="571788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079280" y="151920"/>
            <a:ext cx="10845720" cy="97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46240" y="252684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8413200" y="252684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1079280" y="571788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4746240" y="571788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8413200" y="571788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1079280" y="2526840"/>
            <a:ext cx="10845720" cy="61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10845720" cy="610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5292360" cy="610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636600" y="2526840"/>
            <a:ext cx="5292360" cy="610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1079280" y="151920"/>
            <a:ext cx="10845720" cy="97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6636600" y="2526840"/>
            <a:ext cx="5292360" cy="610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1079280" y="571788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5292360" cy="610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63660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636600" y="571788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63660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1079280" y="5717880"/>
            <a:ext cx="1084572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6600" y="2526840"/>
            <a:ext cx="5292360" cy="610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079280" y="571788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1084572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1079280" y="5717880"/>
            <a:ext cx="1084572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663660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1079280" y="571788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6636600" y="571788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46240" y="252684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413200" y="252684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1079280" y="571788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4746240" y="571788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8413200" y="571788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1079280" y="2526840"/>
            <a:ext cx="10845720" cy="61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10845720" cy="610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5292360" cy="610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636600" y="2526840"/>
            <a:ext cx="5292360" cy="610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1079280" y="151920"/>
            <a:ext cx="10845720" cy="97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636600" y="2526840"/>
            <a:ext cx="5292360" cy="610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1079280" y="571788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5292360" cy="610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660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6600" y="571788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5292360" cy="610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663660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636600" y="571788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63660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079280" y="5717880"/>
            <a:ext cx="1084572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1084572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1079280" y="5717880"/>
            <a:ext cx="1084572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663660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1079280" y="571788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6636600" y="571788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746240" y="252684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8413200" y="252684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1079280" y="571788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4746240" y="571788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8413200" y="571788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1079280" y="2526840"/>
            <a:ext cx="10845720" cy="61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10845720" cy="610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5292360" cy="610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636600" y="2526840"/>
            <a:ext cx="5292360" cy="610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660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79280" y="5717880"/>
            <a:ext cx="1084572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1079280" y="151920"/>
            <a:ext cx="10845720" cy="97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636600" y="2526840"/>
            <a:ext cx="5292360" cy="610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1079280" y="571788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5292360" cy="610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63660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636600" y="571788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63660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1079280" y="5717880"/>
            <a:ext cx="1084572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1084572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1079280" y="5717880"/>
            <a:ext cx="1084572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636600" y="252684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1079280" y="571788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6636600" y="5717880"/>
            <a:ext cx="529236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746240" y="252684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8413200" y="252684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1079280" y="571788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4746240" y="571788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8413200" y="5717880"/>
            <a:ext cx="3492000" cy="29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1079280" y="2526840"/>
            <a:ext cx="10845720" cy="61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10845720" cy="610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79280" y="2920680"/>
            <a:ext cx="10845720" cy="2413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merican Typewriter"/>
              </a:rPr>
              <a:t>Click to edit the title text format</a:t>
            </a:r>
            <a:endParaRPr b="0" lang="en-US" sz="8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79280" y="5359320"/>
            <a:ext cx="10845720" cy="1379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8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e8484"/>
                </a:solidFill>
                <a:latin typeface="American Typewriter"/>
              </a:rPr>
              <a:t>Click to edit the outline text format</a:t>
            </a:r>
            <a:endParaRPr b="0" lang="en-US" sz="4200" spc="-1" strike="noStrike">
              <a:solidFill>
                <a:srgbClr val="7e8484"/>
              </a:solidFill>
              <a:latin typeface="American Typewriter"/>
            </a:endParaRPr>
          </a:p>
          <a:p>
            <a:pPr lvl="1" algn="ctr">
              <a:buClr>
                <a:srgbClr val="7e8484"/>
              </a:buClr>
              <a:buFont typeface="American Typewriter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e8484"/>
                </a:solidFill>
                <a:latin typeface="American Typewriter"/>
              </a:rPr>
              <a:t>Second Outline Level</a:t>
            </a:r>
            <a:endParaRPr b="0" lang="en-US" sz="4200" spc="-1" strike="noStrike">
              <a:solidFill>
                <a:srgbClr val="7e8484"/>
              </a:solidFill>
              <a:latin typeface="American Typewriter"/>
            </a:endParaRPr>
          </a:p>
          <a:p>
            <a:pPr lvl="2" algn="ctr">
              <a:buClr>
                <a:srgbClr val="7e8484"/>
              </a:buClr>
              <a:buFont typeface="American Typewriter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e8484"/>
                </a:solidFill>
                <a:latin typeface="American Typewriter"/>
              </a:rPr>
              <a:t>Third Outline Level</a:t>
            </a:r>
            <a:endParaRPr b="0" lang="en-US" sz="4200" spc="-1" strike="noStrike">
              <a:solidFill>
                <a:srgbClr val="7e8484"/>
              </a:solidFill>
              <a:latin typeface="American Typewriter"/>
            </a:endParaRPr>
          </a:p>
          <a:p>
            <a:pPr lvl="3" algn="ctr">
              <a:buClr>
                <a:srgbClr val="7e8484"/>
              </a:buClr>
              <a:buFont typeface="American Typewriter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e8484"/>
                </a:solidFill>
                <a:latin typeface="American Typewriter"/>
              </a:rPr>
              <a:t>Fourth Outline Level</a:t>
            </a:r>
            <a:endParaRPr b="0" lang="en-US" sz="4200" spc="-1" strike="noStrike">
              <a:solidFill>
                <a:srgbClr val="7e8484"/>
              </a:solidFill>
              <a:latin typeface="American Typewriter"/>
            </a:endParaRPr>
          </a:p>
          <a:p>
            <a:pPr lvl="4" algn="ctr">
              <a:buClr>
                <a:srgbClr val="7e8484"/>
              </a:buClr>
              <a:buFont typeface="American Typewriter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e8484"/>
                </a:solidFill>
                <a:latin typeface="American Typewriter"/>
              </a:rPr>
              <a:t>Fifth Outline Level</a:t>
            </a:r>
            <a:endParaRPr b="0" lang="en-US" sz="4200" spc="-1" strike="noStrike">
              <a:solidFill>
                <a:srgbClr val="7e8484"/>
              </a:solidFill>
              <a:latin typeface="American Typewriter"/>
            </a:endParaRPr>
          </a:p>
          <a:p>
            <a:pPr lvl="5" algn="ctr">
              <a:buClr>
                <a:srgbClr val="ffffff"/>
              </a:buClr>
              <a:buFont typeface="American Typewriter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e8484"/>
                </a:solidFill>
                <a:latin typeface="American Typewriter"/>
              </a:rPr>
              <a:t>Sixth Outline Level</a:t>
            </a:r>
            <a:endParaRPr b="0" lang="en-US" sz="4200" spc="-1" strike="noStrike">
              <a:solidFill>
                <a:srgbClr val="7e8484"/>
              </a:solidFill>
              <a:latin typeface="American Typewriter"/>
            </a:endParaRPr>
          </a:p>
          <a:p>
            <a:pPr lvl="6" algn="ctr">
              <a:buClr>
                <a:srgbClr val="ffffff"/>
              </a:buClr>
              <a:buFont typeface="American Typewriter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e8484"/>
                </a:solidFill>
                <a:latin typeface="American Typewriter"/>
              </a:rPr>
              <a:t>Seventh Outline Level</a:t>
            </a:r>
            <a:endParaRPr b="0" lang="en-US" sz="4200" spc="-1" strike="noStrike">
              <a:solidFill>
                <a:srgbClr val="7e8484"/>
              </a:solidFill>
              <a:latin typeface="American Typewrite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American Typewriter"/>
              </a:rPr>
              <a:t>Click to edit the title text format</a:t>
            </a: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1079640" y="2526840"/>
            <a:ext cx="5232240" cy="610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0000"/>
          </a:bodyPr>
          <a:p>
            <a:pPr marL="600480" indent="-367200">
              <a:spcBef>
                <a:spcPts val="3200"/>
              </a:spcBef>
              <a:buClr>
                <a:srgbClr val="ffffff"/>
              </a:buClr>
              <a:buSzPct val="120000"/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merican Typewriter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merican Typewriter"/>
            </a:endParaRPr>
          </a:p>
          <a:p>
            <a:pPr lvl="1" marL="1020960" indent="-367920">
              <a:spcBef>
                <a:spcPts val="3200"/>
              </a:spcBef>
              <a:buClr>
                <a:srgbClr val="ffffff"/>
              </a:buClr>
              <a:buSzPct val="120000"/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merican Typewriter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merican Typewriter"/>
            </a:endParaRPr>
          </a:p>
          <a:p>
            <a:pPr lvl="2" marL="1427400" indent="-368280">
              <a:spcBef>
                <a:spcPts val="3200"/>
              </a:spcBef>
              <a:buClr>
                <a:srgbClr val="ffffff"/>
              </a:buClr>
              <a:buSzPct val="120000"/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merican Typewriter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merican Typewriter"/>
            </a:endParaRPr>
          </a:p>
          <a:p>
            <a:pPr lvl="3" marL="1846440" indent="-367200">
              <a:spcBef>
                <a:spcPts val="3200"/>
              </a:spcBef>
              <a:buClr>
                <a:srgbClr val="ffffff"/>
              </a:buClr>
              <a:buSzPct val="120000"/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merican Typewriter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merican Typewriter"/>
            </a:endParaRPr>
          </a:p>
          <a:p>
            <a:pPr lvl="4" marL="2266560" indent="-366840">
              <a:spcBef>
                <a:spcPts val="3200"/>
              </a:spcBef>
              <a:buClr>
                <a:srgbClr val="ffffff"/>
              </a:buClr>
              <a:buSzPct val="120000"/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merican Typewriter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merican Typewriter"/>
            </a:endParaRPr>
          </a:p>
          <a:p>
            <a:pPr lvl="5" marL="2266560" indent="-366840">
              <a:spcBef>
                <a:spcPts val="3200"/>
              </a:spcBef>
              <a:buClr>
                <a:srgbClr val="ffffff"/>
              </a:buClr>
              <a:buSzPct val="120000"/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merican Typewriter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merican Typewriter"/>
            </a:endParaRPr>
          </a:p>
          <a:p>
            <a:pPr lvl="6" marL="2266560" indent="-366840">
              <a:spcBef>
                <a:spcPts val="3200"/>
              </a:spcBef>
              <a:buClr>
                <a:srgbClr val="ffffff"/>
              </a:buClr>
              <a:buSzPct val="120000"/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merican Typewriter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079280" y="7480080"/>
            <a:ext cx="1084572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merican Typewriter"/>
              </a:rPr>
              <a:t>Click to edit the title text format</a:t>
            </a:r>
            <a:endParaRPr b="0" lang="en-US" sz="80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95360" y="1663200"/>
            <a:ext cx="5651280" cy="330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American Typewriter"/>
              </a:rPr>
              <a:t>Click to edit the title text format</a:t>
            </a: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495360" y="4990680"/>
            <a:ext cx="5651280" cy="3073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3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7e8484"/>
                </a:solidFill>
                <a:latin typeface="American Typewriter"/>
              </a:rPr>
              <a:t>Click to edit the outline text format</a:t>
            </a:r>
            <a:endParaRPr b="0" lang="en-US" sz="5000" spc="-1" strike="noStrike">
              <a:solidFill>
                <a:srgbClr val="7e8484"/>
              </a:solidFill>
              <a:latin typeface="American Typewriter"/>
            </a:endParaRPr>
          </a:p>
          <a:p>
            <a:pPr lvl="1" algn="ctr">
              <a:buClr>
                <a:srgbClr val="7e8484"/>
              </a:buClr>
              <a:buFont typeface="American Typewriter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7e8484"/>
                </a:solidFill>
                <a:latin typeface="American Typewriter"/>
              </a:rPr>
              <a:t>Second Outline Level</a:t>
            </a:r>
            <a:endParaRPr b="0" lang="en-US" sz="5000" spc="-1" strike="noStrike">
              <a:solidFill>
                <a:srgbClr val="7e8484"/>
              </a:solidFill>
              <a:latin typeface="American Typewriter"/>
            </a:endParaRPr>
          </a:p>
          <a:p>
            <a:pPr lvl="2" algn="ctr">
              <a:buClr>
                <a:srgbClr val="7e8484"/>
              </a:buClr>
              <a:buFont typeface="American Typewriter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7e8484"/>
                </a:solidFill>
                <a:latin typeface="American Typewriter"/>
              </a:rPr>
              <a:t>Third Outline Level</a:t>
            </a:r>
            <a:endParaRPr b="0" lang="en-US" sz="5000" spc="-1" strike="noStrike">
              <a:solidFill>
                <a:srgbClr val="7e8484"/>
              </a:solidFill>
              <a:latin typeface="American Typewriter"/>
            </a:endParaRPr>
          </a:p>
          <a:p>
            <a:pPr lvl="3" algn="ctr">
              <a:buClr>
                <a:srgbClr val="7e8484"/>
              </a:buClr>
              <a:buFont typeface="American Typewriter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7e8484"/>
                </a:solidFill>
                <a:latin typeface="American Typewriter"/>
              </a:rPr>
              <a:t>Fourth Outline Level</a:t>
            </a:r>
            <a:endParaRPr b="0" lang="en-US" sz="5000" spc="-1" strike="noStrike">
              <a:solidFill>
                <a:srgbClr val="7e8484"/>
              </a:solidFill>
              <a:latin typeface="American Typewriter"/>
            </a:endParaRPr>
          </a:p>
          <a:p>
            <a:pPr lvl="4" algn="ctr">
              <a:buClr>
                <a:srgbClr val="7e8484"/>
              </a:buClr>
              <a:buFont typeface="American Typewriter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7e8484"/>
                </a:solidFill>
                <a:latin typeface="American Typewriter"/>
              </a:rPr>
              <a:t>Fifth Outline Level</a:t>
            </a:r>
            <a:endParaRPr b="0" lang="en-US" sz="5000" spc="-1" strike="noStrike">
              <a:solidFill>
                <a:srgbClr val="7e8484"/>
              </a:solidFill>
              <a:latin typeface="American Typewriter"/>
            </a:endParaRPr>
          </a:p>
          <a:p>
            <a:pPr lvl="5" algn="ctr">
              <a:buClr>
                <a:srgbClr val="ffffff"/>
              </a:buClr>
              <a:buFont typeface="American Typewriter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7e8484"/>
                </a:solidFill>
                <a:latin typeface="American Typewriter"/>
              </a:rPr>
              <a:t>Sixth Outline Level</a:t>
            </a:r>
            <a:endParaRPr b="0" lang="en-US" sz="5000" spc="-1" strike="noStrike">
              <a:solidFill>
                <a:srgbClr val="7e8484"/>
              </a:solidFill>
              <a:latin typeface="American Typewriter"/>
            </a:endParaRPr>
          </a:p>
          <a:p>
            <a:pPr lvl="6" algn="ctr">
              <a:buClr>
                <a:srgbClr val="ffffff"/>
              </a:buClr>
              <a:buFont typeface="American Typewriter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7e8484"/>
                </a:solidFill>
                <a:latin typeface="American Typewriter"/>
              </a:rPr>
              <a:t>Seventh Outline Level</a:t>
            </a:r>
            <a:endParaRPr b="0" lang="en-US" sz="5000" spc="-1" strike="noStrike">
              <a:solidFill>
                <a:srgbClr val="7e8484"/>
              </a:solidFill>
              <a:latin typeface="American Typewrite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079280" y="7480080"/>
            <a:ext cx="1084572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merican Typewriter"/>
              </a:rPr>
              <a:t>Click to edit the title text format</a:t>
            </a:r>
            <a:endParaRPr b="0" lang="en-US" sz="80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American Typewriter"/>
              </a:rPr>
              <a:t>Click to edit the title text format</a:t>
            </a: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079280" y="2526840"/>
            <a:ext cx="10845720" cy="610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6000"/>
          </a:bodyPr>
          <a:p>
            <a:pPr marL="732960" indent="-482040">
              <a:spcBef>
                <a:spcPts val="3200"/>
              </a:spcBef>
              <a:buClr>
                <a:srgbClr val="ffffff"/>
              </a:buClr>
              <a:buSzPct val="120000"/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merican Typewriter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  <a:p>
            <a:pPr lvl="1" marL="1185120" indent="-483120">
              <a:spcBef>
                <a:spcPts val="3200"/>
              </a:spcBef>
              <a:buClr>
                <a:srgbClr val="ffffff"/>
              </a:buClr>
              <a:buSzPct val="120000"/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merican Typewriter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  <a:p>
            <a:pPr lvl="2" marL="1621800" indent="-483120">
              <a:spcBef>
                <a:spcPts val="3200"/>
              </a:spcBef>
              <a:buClr>
                <a:srgbClr val="ffffff"/>
              </a:buClr>
              <a:buSzPct val="120000"/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merican Typewriter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  <a:p>
            <a:pPr lvl="3" marL="2073600" indent="-483120">
              <a:spcBef>
                <a:spcPts val="3200"/>
              </a:spcBef>
              <a:buClr>
                <a:srgbClr val="ffffff"/>
              </a:buClr>
              <a:buSzPct val="120000"/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merican Typewriter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  <a:p>
            <a:pPr lvl="4" marL="2524320" indent="-482040">
              <a:spcBef>
                <a:spcPts val="3200"/>
              </a:spcBef>
              <a:buClr>
                <a:srgbClr val="ffffff"/>
              </a:buClr>
              <a:buSzPct val="120000"/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merican Typewriter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  <a:p>
            <a:pPr lvl="5" marL="2524320" indent="-482040">
              <a:spcBef>
                <a:spcPts val="3200"/>
              </a:spcBef>
              <a:buClr>
                <a:srgbClr val="ffffff"/>
              </a:buClr>
              <a:buSzPct val="120000"/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merican Typewriter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  <a:p>
            <a:pPr lvl="6" marL="2524320" indent="-482040">
              <a:spcBef>
                <a:spcPts val="3200"/>
              </a:spcBef>
              <a:buClr>
                <a:srgbClr val="ffffff"/>
              </a:buClr>
              <a:buSzPct val="120000"/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merican Typewriter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American Typewriter"/>
              </a:rPr>
              <a:t>Click to edit the title text format</a:t>
            </a: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1079280" y="2526840"/>
            <a:ext cx="10845720" cy="610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750960" indent="-459000">
              <a:spcBef>
                <a:spcPts val="3200"/>
              </a:spcBef>
              <a:buClr>
                <a:srgbClr val="ffffff"/>
              </a:buClr>
              <a:buSzPct val="120000"/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merican Typewriter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merican Typewriter"/>
            </a:endParaRPr>
          </a:p>
          <a:p>
            <a:pPr lvl="1" marL="1276200" indent="-460080">
              <a:spcBef>
                <a:spcPts val="3200"/>
              </a:spcBef>
              <a:buClr>
                <a:srgbClr val="ffffff"/>
              </a:buClr>
              <a:buSzPct val="120000"/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merican Typewriter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merican Typewriter"/>
            </a:endParaRPr>
          </a:p>
          <a:p>
            <a:pPr lvl="2" marL="1784520" indent="-460440">
              <a:spcBef>
                <a:spcPts val="3200"/>
              </a:spcBef>
              <a:buClr>
                <a:srgbClr val="ffffff"/>
              </a:buClr>
              <a:buSzPct val="120000"/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merican Typewriter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merican Typewriter"/>
            </a:endParaRPr>
          </a:p>
          <a:p>
            <a:pPr lvl="3" marL="2308320" indent="-459000">
              <a:spcBef>
                <a:spcPts val="3200"/>
              </a:spcBef>
              <a:buClr>
                <a:srgbClr val="ffffff"/>
              </a:buClr>
              <a:buSzPct val="120000"/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merican Typewriter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merican Typewriter"/>
            </a:endParaRPr>
          </a:p>
          <a:p>
            <a:pPr lvl="4" marL="2833560" indent="-458640">
              <a:spcBef>
                <a:spcPts val="3200"/>
              </a:spcBef>
              <a:buClr>
                <a:srgbClr val="ffffff"/>
              </a:buClr>
              <a:buSzPct val="120000"/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merican Typewriter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merican Typewriter"/>
            </a:endParaRPr>
          </a:p>
          <a:p>
            <a:pPr lvl="5" marL="2833560" indent="-458640">
              <a:spcBef>
                <a:spcPts val="3200"/>
              </a:spcBef>
              <a:buClr>
                <a:srgbClr val="ffffff"/>
              </a:buClr>
              <a:buSzPct val="120000"/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merican Typewriter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merican Typewriter"/>
            </a:endParaRPr>
          </a:p>
          <a:p>
            <a:pPr lvl="6" marL="2833560" indent="-458640">
              <a:spcBef>
                <a:spcPts val="3200"/>
              </a:spcBef>
              <a:buClr>
                <a:srgbClr val="ffffff"/>
              </a:buClr>
              <a:buSzPct val="120000"/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merican Typewriter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American Typewriter"/>
              </a:rPr>
              <a:t>Click to edit the title text format</a:t>
            </a: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1079640" y="2526840"/>
            <a:ext cx="5232240" cy="610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0000"/>
          </a:bodyPr>
          <a:p>
            <a:pPr marL="600480" indent="-367200">
              <a:spcBef>
                <a:spcPts val="3200"/>
              </a:spcBef>
              <a:buClr>
                <a:srgbClr val="ffffff"/>
              </a:buClr>
              <a:buSzPct val="120000"/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merican Typewriter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merican Typewriter"/>
            </a:endParaRPr>
          </a:p>
          <a:p>
            <a:pPr lvl="1" marL="1020960" indent="-367920">
              <a:spcBef>
                <a:spcPts val="3200"/>
              </a:spcBef>
              <a:buClr>
                <a:srgbClr val="ffffff"/>
              </a:buClr>
              <a:buSzPct val="120000"/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merican Typewriter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merican Typewriter"/>
            </a:endParaRPr>
          </a:p>
          <a:p>
            <a:pPr lvl="2" marL="1427400" indent="-368280">
              <a:spcBef>
                <a:spcPts val="3200"/>
              </a:spcBef>
              <a:buClr>
                <a:srgbClr val="ffffff"/>
              </a:buClr>
              <a:buSzPct val="120000"/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merican Typewriter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merican Typewriter"/>
            </a:endParaRPr>
          </a:p>
          <a:p>
            <a:pPr lvl="3" marL="1846440" indent="-367200">
              <a:spcBef>
                <a:spcPts val="3200"/>
              </a:spcBef>
              <a:buClr>
                <a:srgbClr val="ffffff"/>
              </a:buClr>
              <a:buSzPct val="120000"/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merican Typewriter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merican Typewriter"/>
            </a:endParaRPr>
          </a:p>
          <a:p>
            <a:pPr lvl="4" marL="2266560" indent="-366840">
              <a:spcBef>
                <a:spcPts val="3200"/>
              </a:spcBef>
              <a:buClr>
                <a:srgbClr val="ffffff"/>
              </a:buClr>
              <a:buSzPct val="120000"/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merican Typewriter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merican Typewriter"/>
            </a:endParaRPr>
          </a:p>
          <a:p>
            <a:pPr lvl="5" marL="2266560" indent="-366840">
              <a:spcBef>
                <a:spcPts val="3200"/>
              </a:spcBef>
              <a:buClr>
                <a:srgbClr val="ffffff"/>
              </a:buClr>
              <a:buSzPct val="120000"/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merican Typewriter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merican Typewriter"/>
            </a:endParaRPr>
          </a:p>
          <a:p>
            <a:pPr lvl="6" marL="2266560" indent="-366840">
              <a:spcBef>
                <a:spcPts val="3200"/>
              </a:spcBef>
              <a:buClr>
                <a:srgbClr val="ffffff"/>
              </a:buClr>
              <a:buSzPct val="120000"/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merican Typewriter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American Typewriter"/>
              </a:rPr>
              <a:t>Click to edit the title text format</a:t>
            </a: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7772400" y="2526840"/>
            <a:ext cx="4152960" cy="610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1000"/>
          </a:bodyPr>
          <a:p>
            <a:pPr marL="533160" indent="-325800">
              <a:spcBef>
                <a:spcPts val="3200"/>
              </a:spcBef>
              <a:buClr>
                <a:srgbClr val="ffffff"/>
              </a:buClr>
              <a:buSzPct val="120000"/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merican Typewriter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merican Typewriter"/>
            </a:endParaRPr>
          </a:p>
          <a:p>
            <a:pPr lvl="1" marL="905760" indent="-326520">
              <a:spcBef>
                <a:spcPts val="3200"/>
              </a:spcBef>
              <a:buClr>
                <a:srgbClr val="ffffff"/>
              </a:buClr>
              <a:buSzPct val="120000"/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merican Typewriter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merican Typewriter"/>
            </a:endParaRPr>
          </a:p>
          <a:p>
            <a:pPr lvl="2" marL="1266840" indent="-326880">
              <a:spcBef>
                <a:spcPts val="3200"/>
              </a:spcBef>
              <a:buClr>
                <a:srgbClr val="ffffff"/>
              </a:buClr>
              <a:buSzPct val="120000"/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merican Typewriter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merican Typewriter"/>
            </a:endParaRPr>
          </a:p>
          <a:p>
            <a:pPr lvl="3" marL="1638720" indent="-325800">
              <a:spcBef>
                <a:spcPts val="3200"/>
              </a:spcBef>
              <a:buClr>
                <a:srgbClr val="ffffff"/>
              </a:buClr>
              <a:buSzPct val="120000"/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merican Typewriter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merican Typewriter"/>
            </a:endParaRPr>
          </a:p>
          <a:p>
            <a:pPr lvl="4" marL="2011680" indent="-325440">
              <a:spcBef>
                <a:spcPts val="3200"/>
              </a:spcBef>
              <a:buClr>
                <a:srgbClr val="ffffff"/>
              </a:buClr>
              <a:buSzPct val="120000"/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merican Typewriter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merican Typewriter"/>
            </a:endParaRPr>
          </a:p>
          <a:p>
            <a:pPr lvl="5" marL="2011680" indent="-325440">
              <a:spcBef>
                <a:spcPts val="3200"/>
              </a:spcBef>
              <a:buClr>
                <a:srgbClr val="ffffff"/>
              </a:buClr>
              <a:buSzPct val="120000"/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merican Typewriter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merican Typewriter"/>
            </a:endParaRPr>
          </a:p>
          <a:p>
            <a:pPr lvl="6" marL="2011680" indent="-325440">
              <a:spcBef>
                <a:spcPts val="3200"/>
              </a:spcBef>
              <a:buClr>
                <a:srgbClr val="ffffff"/>
              </a:buClr>
              <a:buSzPct val="120000"/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merican Typewriter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American Typewriter"/>
              </a:rPr>
              <a:t>Click to edit the title text format</a:t>
            </a: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body"/>
          </p:nvPr>
        </p:nvSpPr>
        <p:spPr>
          <a:xfrm>
            <a:off x="1079280" y="875880"/>
            <a:ext cx="10845720" cy="8001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52480" indent="-560520">
              <a:spcBef>
                <a:spcPts val="3200"/>
              </a:spcBef>
              <a:buClr>
                <a:srgbClr val="ffffff"/>
              </a:buClr>
              <a:buSzPct val="120000"/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merican Typewriter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  <a:p>
            <a:pPr lvl="1" marL="1378080" indent="-561960">
              <a:spcBef>
                <a:spcPts val="3200"/>
              </a:spcBef>
              <a:buClr>
                <a:srgbClr val="ffffff"/>
              </a:buClr>
              <a:buSzPct val="120000"/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merican Typewriter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  <a:p>
            <a:pPr lvl="2" marL="1886040" indent="-561960">
              <a:spcBef>
                <a:spcPts val="3200"/>
              </a:spcBef>
              <a:buClr>
                <a:srgbClr val="ffffff"/>
              </a:buClr>
              <a:buSzPct val="120000"/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merican Typewriter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  <a:p>
            <a:pPr lvl="3" marL="2411280" indent="-561960">
              <a:spcBef>
                <a:spcPts val="3200"/>
              </a:spcBef>
              <a:buClr>
                <a:srgbClr val="ffffff"/>
              </a:buClr>
              <a:buSzPct val="120000"/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merican Typewriter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  <a:p>
            <a:pPr lvl="4" marL="2935440" indent="-560520">
              <a:spcBef>
                <a:spcPts val="3200"/>
              </a:spcBef>
              <a:buClr>
                <a:srgbClr val="ffffff"/>
              </a:buClr>
              <a:buSzPct val="120000"/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merican Typewriter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  <a:p>
            <a:pPr lvl="5" marL="2935440" indent="-560520">
              <a:spcBef>
                <a:spcPts val="3200"/>
              </a:spcBef>
              <a:buClr>
                <a:srgbClr val="ffffff"/>
              </a:buClr>
              <a:buSzPct val="120000"/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merican Typewriter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  <a:p>
            <a:pPr lvl="6" marL="2935440" indent="-560520">
              <a:spcBef>
                <a:spcPts val="3200"/>
              </a:spcBef>
              <a:buClr>
                <a:srgbClr val="ffffff"/>
              </a:buClr>
              <a:buSzPct val="120000"/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merican Typewriter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079280" y="2971440"/>
            <a:ext cx="1084572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merican Typewriter"/>
              </a:rPr>
              <a:t>Click to edit the title text format</a:t>
            </a:r>
            <a:endParaRPr b="0" lang="en-US" sz="80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americasright.com/2010/02/17/pa-school-district-accused-of-spying-on-students-via-school-issued-laptop-webcams/" TargetMode="External"/><Relationship Id="rId3" Type="http://schemas.openxmlformats.org/officeDocument/2006/relationships/hyperlink" Target="http://www.computerworld.com/s/article/9160878/Federal_judge_orders_Pa._schools_to_stop_laptop_spying" TargetMode="External"/><Relationship Id="rId4" Type="http://schemas.openxmlformats.org/officeDocument/2006/relationships/hyperlink" Target="http://en.wikipedia.org/wiki/Robbins_v._Lower_Merion_School_District" TargetMode="External"/><Relationship Id="rId5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079280" y="2920680"/>
            <a:ext cx="10845720" cy="2413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merican Typewriter"/>
              </a:rPr>
              <a:t>WebcamGate</a:t>
            </a:r>
            <a:endParaRPr b="0" lang="en-US" sz="8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079280" y="5359320"/>
            <a:ext cx="10845720" cy="1379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9000"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7e8484"/>
                </a:solidFill>
                <a:latin typeface="American Typewriter"/>
              </a:rPr>
              <a:t>Legal and Ethical Article</a:t>
            </a:r>
            <a:endParaRPr b="0" lang="en-US" sz="2100" spc="-1" strike="noStrike">
              <a:solidFill>
                <a:srgbClr val="7e8484"/>
              </a:solidFill>
              <a:latin typeface="American Typewriter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7e8484"/>
                </a:solidFill>
                <a:latin typeface="American Typewriter"/>
              </a:rPr>
              <a:t>Technology and The Administrator</a:t>
            </a:r>
            <a:endParaRPr b="0" lang="en-US" sz="2100" spc="-1" strike="noStrike">
              <a:solidFill>
                <a:srgbClr val="7e8484"/>
              </a:solidFill>
              <a:latin typeface="American Typewriter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7e8484"/>
                </a:solidFill>
                <a:latin typeface="American Typewriter"/>
              </a:rPr>
              <a:t>Chris Cerulli</a:t>
            </a:r>
            <a:endParaRPr b="0" lang="en-US" sz="2100" spc="-1" strike="noStrike">
              <a:solidFill>
                <a:srgbClr val="7e8484"/>
              </a:solidFill>
              <a:latin typeface="American Typewriter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7e8484"/>
                </a:solidFill>
                <a:latin typeface="American Typewriter"/>
              </a:rPr>
              <a:t>Summer 2012</a:t>
            </a:r>
            <a:endParaRPr b="0" lang="en-US" sz="2100" spc="-1" strike="noStrike">
              <a:solidFill>
                <a:srgbClr val="7e8484"/>
              </a:solidFill>
              <a:latin typeface="American Typewriter"/>
            </a:endParaRPr>
          </a:p>
        </p:txBody>
      </p:sp>
      <p:pic>
        <p:nvPicPr>
          <p:cNvPr id="489" name="" descr=""/>
          <p:cNvPicPr/>
          <p:nvPr/>
        </p:nvPicPr>
        <p:blipFill>
          <a:blip r:embed="rId2"/>
          <a:stretch/>
        </p:blipFill>
        <p:spPr>
          <a:xfrm>
            <a:off x="5823000" y="779400"/>
            <a:ext cx="1346040" cy="135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American Typewriter"/>
              </a:rPr>
              <a:t>Immediate Response/Questions</a:t>
            </a: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10845720" cy="610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903240" indent="-560160">
              <a:lnSpc>
                <a:spcPct val="100000"/>
              </a:lnSpc>
              <a:spcBef>
                <a:spcPts val="3200"/>
              </a:spcBef>
              <a:buClr>
                <a:srgbClr val="ffffff"/>
              </a:buClr>
              <a:buSzPct val="120000"/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merican Typewriter"/>
              </a:rPr>
              <a:t>If laptop was considered “stolen” because insurance fee was not paid, why was neither Robbins or his parents confronted about the fee or taking the laptop home?</a:t>
            </a: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  <a:p>
            <a:pPr marL="903240" indent="-560160">
              <a:lnSpc>
                <a:spcPct val="100000"/>
              </a:lnSpc>
              <a:spcBef>
                <a:spcPts val="3200"/>
              </a:spcBef>
              <a:buClr>
                <a:srgbClr val="ffffff"/>
              </a:buClr>
              <a:buSzPct val="120000"/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merican Typewriter"/>
              </a:rPr>
              <a:t>Why was surveillance transmission kept active for 15 days, when after only 2 hours it was confirmed to be in Robbins home?</a:t>
            </a: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American Typewriter"/>
              </a:rPr>
              <a:t>Further Responses</a:t>
            </a: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079640" y="2526840"/>
            <a:ext cx="6210000" cy="610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903240" indent="-560160">
              <a:lnSpc>
                <a:spcPct val="100000"/>
              </a:lnSpc>
              <a:buClr>
                <a:srgbClr val="ffffff"/>
              </a:buClr>
              <a:buSzPct val="120000"/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merican Typewriter"/>
              </a:rPr>
              <a:t>Over 66,000 images captured in the privacy of students homes</a:t>
            </a:r>
            <a:endParaRPr b="0" lang="en-US" sz="2900" spc="-1" strike="noStrike">
              <a:solidFill>
                <a:srgbClr val="ffffff"/>
              </a:solidFill>
              <a:latin typeface="American Typewriter"/>
            </a:endParaRPr>
          </a:p>
          <a:p>
            <a:pPr marL="903240" indent="-560160">
              <a:lnSpc>
                <a:spcPct val="100000"/>
              </a:lnSpc>
              <a:spcBef>
                <a:spcPts val="2237"/>
              </a:spcBef>
              <a:buClr>
                <a:srgbClr val="ffffff"/>
              </a:buClr>
              <a:buSzPct val="120000"/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merican Typewriter"/>
              </a:rPr>
              <a:t>“</a:t>
            </a:r>
            <a:r>
              <a:rPr b="0" lang="en-US" sz="2900" spc="-1" strike="noStrike">
                <a:solidFill>
                  <a:srgbClr val="ffffff"/>
                </a:solidFill>
                <a:latin typeface="American Typewriter"/>
              </a:rPr>
              <a:t>It’s a little hard to believe that none of that material captured is scandalous” - Christopher Null, technology writer, Yahoo! News</a:t>
            </a:r>
            <a:endParaRPr b="0" lang="en-US" sz="2900" spc="-1" strike="noStrike">
              <a:solidFill>
                <a:srgbClr val="ffffff"/>
              </a:solidFill>
              <a:latin typeface="American Typewriter"/>
            </a:endParaRPr>
          </a:p>
          <a:p>
            <a:pPr marL="903240" indent="-560160">
              <a:lnSpc>
                <a:spcPct val="100000"/>
              </a:lnSpc>
              <a:spcBef>
                <a:spcPts val="2237"/>
              </a:spcBef>
              <a:buClr>
                <a:srgbClr val="ffffff"/>
              </a:buClr>
              <a:buSzPct val="120000"/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merican Typewriter"/>
              </a:rPr>
              <a:t>Very surprising that there was not more discussion about a pedophile or child pornography investigation</a:t>
            </a:r>
            <a:endParaRPr b="0" lang="en-US" sz="2900" spc="-1" strike="noStrike">
              <a:solidFill>
                <a:srgbClr val="ffffff"/>
              </a:solidFill>
              <a:latin typeface="American Typewriter"/>
            </a:endParaRPr>
          </a:p>
        </p:txBody>
      </p:sp>
      <p:pic>
        <p:nvPicPr>
          <p:cNvPr id="512" name="" descr=""/>
          <p:cNvPicPr/>
          <p:nvPr/>
        </p:nvPicPr>
        <p:blipFill>
          <a:blip r:embed="rId2"/>
          <a:stretch/>
        </p:blipFill>
        <p:spPr>
          <a:xfrm>
            <a:off x="8115480" y="2895480"/>
            <a:ext cx="4368600" cy="3962520"/>
          </a:xfrm>
          <a:prstGeom prst="rect">
            <a:avLst/>
          </a:prstGeom>
          <a:ln w="0">
            <a:noFill/>
          </a:ln>
        </p:spPr>
      </p:pic>
      <p:sp>
        <p:nvSpPr>
          <p:cNvPr id="513" name=""/>
          <p:cNvSpPr/>
          <p:nvPr/>
        </p:nvSpPr>
        <p:spPr>
          <a:xfrm>
            <a:off x="7037280" y="7137360"/>
            <a:ext cx="652788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merican Typewriter"/>
                <a:ea typeface="American Typewriter"/>
              </a:rPr>
              <a:t>Chris Hansen</a:t>
            </a:r>
            <a:endParaRPr b="0" lang="en-US" sz="1800" spc="-1" strike="noStrike">
              <a:solidFill>
                <a:srgbClr val="ffffff"/>
              </a:solidFill>
              <a:latin typeface="American Typewrite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merican Typewriter"/>
                <a:ea typeface="American Typewriter"/>
              </a:rPr>
              <a:t>How to Catch A Predator</a:t>
            </a:r>
            <a:endParaRPr b="0" lang="en-US" sz="18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American Typewriter"/>
              </a:rPr>
              <a:t>Even Further Responses</a:t>
            </a: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10845720" cy="610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903240" indent="-560160">
              <a:lnSpc>
                <a:spcPct val="100000"/>
              </a:lnSpc>
              <a:buClr>
                <a:srgbClr val="ffffff"/>
              </a:buClr>
              <a:buSzPct val="120000"/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merican Typewriter"/>
              </a:rPr>
              <a:t>School District disciplinary jurisdiction</a:t>
            </a:r>
            <a:endParaRPr b="0" lang="en-US" sz="3900" spc="-1" strike="noStrike">
              <a:solidFill>
                <a:srgbClr val="ffffff"/>
              </a:solidFill>
              <a:latin typeface="American Typewriter"/>
            </a:endParaRPr>
          </a:p>
          <a:p>
            <a:pPr marL="903240" indent="-560160">
              <a:lnSpc>
                <a:spcPct val="100000"/>
              </a:lnSpc>
              <a:spcBef>
                <a:spcPts val="3039"/>
              </a:spcBef>
              <a:buClr>
                <a:srgbClr val="ffffff"/>
              </a:buClr>
              <a:buSzPct val="120000"/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merican Typewriter"/>
              </a:rPr>
              <a:t>Why would a school official feel they have authority to issue discipline on actions within a students private home?</a:t>
            </a:r>
            <a:endParaRPr b="0" lang="en-US" sz="3900" spc="-1" strike="noStrike">
              <a:solidFill>
                <a:srgbClr val="ffffff"/>
              </a:solidFill>
              <a:latin typeface="American Typewriter"/>
            </a:endParaRPr>
          </a:p>
          <a:p>
            <a:pPr marL="903240" indent="-560160">
              <a:lnSpc>
                <a:spcPct val="100000"/>
              </a:lnSpc>
              <a:spcBef>
                <a:spcPts val="3039"/>
              </a:spcBef>
              <a:buClr>
                <a:srgbClr val="ffffff"/>
              </a:buClr>
              <a:buSzPct val="120000"/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merican Typewriter"/>
              </a:rPr>
              <a:t>One could make a case if the action was taken out of concern for the wellness of the student and a drug related problem</a:t>
            </a:r>
            <a:endParaRPr b="0" lang="en-US" sz="3900" spc="-1" strike="noStrike">
              <a:solidFill>
                <a:srgbClr val="ffffff"/>
              </a:solidFill>
              <a:latin typeface="American Typewriter"/>
            </a:endParaRPr>
          </a:p>
          <a:p>
            <a:pPr marL="903240" indent="-560160">
              <a:lnSpc>
                <a:spcPct val="100000"/>
              </a:lnSpc>
              <a:spcBef>
                <a:spcPts val="3039"/>
              </a:spcBef>
              <a:buClr>
                <a:srgbClr val="ffffff"/>
              </a:buClr>
              <a:buSzPct val="120000"/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merican Typewriter"/>
              </a:rPr>
              <a:t>LMSD acted as a vigilante</a:t>
            </a:r>
            <a:endParaRPr b="0" lang="en-US" sz="39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American Typewriter"/>
              </a:rPr>
              <a:t>References</a:t>
            </a: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10845720" cy="610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903240" indent="-560160">
              <a:lnSpc>
                <a:spcPct val="100000"/>
              </a:lnSpc>
              <a:spcBef>
                <a:spcPts val="3200"/>
              </a:spcBef>
              <a:buClr>
                <a:srgbClr val="000099"/>
              </a:buClr>
              <a:buSzPct val="120000"/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2"/>
              </a:rPr>
              <a:t>http://americasright.com/2010/02/17/pa-school-district-accused-of-spying-on-students-via-school-issued-laptop-webcams/</a:t>
            </a:r>
            <a:endParaRPr b="0" lang="en-US" sz="1200" spc="-1" strike="noStrike">
              <a:solidFill>
                <a:srgbClr val="ffffff"/>
              </a:solidFill>
              <a:latin typeface="American Typewriter"/>
            </a:endParaRPr>
          </a:p>
          <a:p>
            <a:pPr marL="903240" indent="-560160">
              <a:lnSpc>
                <a:spcPct val="100000"/>
              </a:lnSpc>
              <a:spcBef>
                <a:spcPts val="3200"/>
              </a:spcBef>
              <a:buClr>
                <a:srgbClr val="000099"/>
              </a:buClr>
              <a:buSzPct val="120000"/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3"/>
              </a:rPr>
              <a:t>http://www.computerworld.com/s/article/9160878/Federal_judge_orders_Pa._schools_to_stop_laptop_spying</a:t>
            </a:r>
            <a:endParaRPr b="0" lang="en-US" sz="1200" spc="-1" strike="noStrike">
              <a:solidFill>
                <a:srgbClr val="ffffff"/>
              </a:solidFill>
              <a:latin typeface="American Typewriter"/>
            </a:endParaRPr>
          </a:p>
          <a:p>
            <a:pPr marL="903240" indent="-560160">
              <a:lnSpc>
                <a:spcPct val="100000"/>
              </a:lnSpc>
              <a:spcBef>
                <a:spcPts val="3200"/>
              </a:spcBef>
              <a:buClr>
                <a:srgbClr val="000099"/>
              </a:buClr>
              <a:buSzPct val="120000"/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4"/>
              </a:rPr>
              <a:t>http://en.wikipedia.org/wiki/Robbins_v._Lower_Merion_School_District</a:t>
            </a:r>
            <a:endParaRPr b="0" lang="en-US" sz="1200" spc="-1" strike="noStrike">
              <a:solidFill>
                <a:srgbClr val="ffffff"/>
              </a:solidFill>
              <a:latin typeface="American Typewriter"/>
            </a:endParaRPr>
          </a:p>
          <a:p>
            <a:pPr marL="903240" indent="-560160">
              <a:lnSpc>
                <a:spcPct val="100000"/>
              </a:lnSpc>
              <a:spcBef>
                <a:spcPts val="3200"/>
              </a:spcBef>
              <a:buClr>
                <a:srgbClr val="000099"/>
              </a:buClr>
              <a:buSzPct val="120000"/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 u="sng">
                <a:solidFill>
                  <a:srgbClr val="000099"/>
                </a:solidFill>
                <a:uFillTx/>
                <a:latin typeface="Arial"/>
                <a:ea typeface="Arial"/>
              </a:rPr>
              <a:t>http://www.guardian.co.uk/world/2010/feb/19/schools-spied-on-students-webcams</a:t>
            </a:r>
            <a:endParaRPr b="0" lang="en-US" sz="1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American Typewriter"/>
              </a:rPr>
              <a:t>Meet Blake Robbins...</a:t>
            </a: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pic>
        <p:nvPicPr>
          <p:cNvPr id="491" name="" descr=""/>
          <p:cNvPicPr/>
          <p:nvPr/>
        </p:nvPicPr>
        <p:blipFill>
          <a:blip r:embed="rId2"/>
          <a:stretch/>
        </p:blipFill>
        <p:spPr>
          <a:xfrm>
            <a:off x="3352680" y="2527200"/>
            <a:ext cx="6291360" cy="469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American Typewriter"/>
              </a:rPr>
              <a:t>Meet Blake Robbins...</a:t>
            </a: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10845720" cy="610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8000"/>
          </a:bodyPr>
          <a:p>
            <a:pPr marL="884880" indent="-548640">
              <a:lnSpc>
                <a:spcPct val="100000"/>
              </a:lnSpc>
              <a:spcBef>
                <a:spcPts val="3200"/>
              </a:spcBef>
              <a:buClr>
                <a:srgbClr val="ffffff"/>
              </a:buClr>
              <a:buSzPct val="120000"/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merican Typewriter"/>
              </a:rPr>
              <a:t>In that picture, Blake is...</a:t>
            </a: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  <a:p>
            <a:pPr lvl="1" marL="1400040" indent="-550440">
              <a:lnSpc>
                <a:spcPct val="100000"/>
              </a:lnSpc>
              <a:spcBef>
                <a:spcPts val="3200"/>
              </a:spcBef>
              <a:buClr>
                <a:srgbClr val="ffffff"/>
              </a:buClr>
              <a:buSzPct val="120000"/>
              <a:buFont typeface="American Typewrit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merican Typewriter"/>
              </a:rPr>
              <a:t>15-years-old</a:t>
            </a: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  <a:p>
            <a:pPr lvl="1" marL="1400040" indent="-550440">
              <a:lnSpc>
                <a:spcPct val="100000"/>
              </a:lnSpc>
              <a:spcBef>
                <a:spcPts val="3200"/>
              </a:spcBef>
              <a:buClr>
                <a:srgbClr val="ffffff"/>
              </a:buClr>
              <a:buSzPct val="120000"/>
              <a:buFont typeface="American Typewrit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merican Typewriter"/>
              </a:rPr>
              <a:t>A student at Harriton High School of Lower Merion School District</a:t>
            </a: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  <a:p>
            <a:pPr lvl="1" marL="1400040" indent="-550440">
              <a:lnSpc>
                <a:spcPct val="100000"/>
              </a:lnSpc>
              <a:spcBef>
                <a:spcPts val="3200"/>
              </a:spcBef>
              <a:buClr>
                <a:srgbClr val="ffffff"/>
              </a:buClr>
              <a:buSzPct val="120000"/>
              <a:buFont typeface="American Typewrit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merican Typewriter"/>
              </a:rPr>
              <a:t>Sleeping</a:t>
            </a: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  <a:p>
            <a:pPr lvl="1" marL="1400040" indent="-550440">
              <a:lnSpc>
                <a:spcPct val="100000"/>
              </a:lnSpc>
              <a:spcBef>
                <a:spcPts val="3200"/>
              </a:spcBef>
              <a:buClr>
                <a:srgbClr val="ffffff"/>
              </a:buClr>
              <a:buSzPct val="120000"/>
              <a:buFont typeface="American Typewrit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merican Typewriter"/>
              </a:rPr>
              <a:t>Being spied on/doesn’t know his picture is being taken</a:t>
            </a: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American Typewriter"/>
              </a:rPr>
              <a:t>LMSD 1:1 Initiative</a:t>
            </a: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10845720" cy="610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903240" indent="-560160">
              <a:lnSpc>
                <a:spcPct val="100000"/>
              </a:lnSpc>
              <a:buClr>
                <a:srgbClr val="ffffff"/>
              </a:buClr>
              <a:buSzPct val="120000"/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merican Typewriter"/>
              </a:rPr>
              <a:t>Implemented for 2009-2010 School year</a:t>
            </a:r>
            <a:endParaRPr b="0" lang="en-US" sz="3900" spc="-1" strike="noStrike">
              <a:solidFill>
                <a:srgbClr val="ffffff"/>
              </a:solidFill>
              <a:latin typeface="American Typewriter"/>
            </a:endParaRPr>
          </a:p>
          <a:p>
            <a:pPr marL="903240" indent="-560160">
              <a:lnSpc>
                <a:spcPct val="100000"/>
              </a:lnSpc>
              <a:spcBef>
                <a:spcPts val="3039"/>
              </a:spcBef>
              <a:buClr>
                <a:srgbClr val="ffffff"/>
              </a:buClr>
              <a:buSzPct val="120000"/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merican Typewriter"/>
              </a:rPr>
              <a:t>Issued 2300 Apple MacBooks</a:t>
            </a:r>
            <a:endParaRPr b="0" lang="en-US" sz="3900" spc="-1" strike="noStrike">
              <a:solidFill>
                <a:srgbClr val="ffffff"/>
              </a:solidFill>
              <a:latin typeface="American Typewriter"/>
            </a:endParaRPr>
          </a:p>
          <a:p>
            <a:pPr marL="903240" indent="-560160">
              <a:lnSpc>
                <a:spcPct val="100000"/>
              </a:lnSpc>
              <a:spcBef>
                <a:spcPts val="3039"/>
              </a:spcBef>
              <a:buClr>
                <a:srgbClr val="ffffff"/>
              </a:buClr>
              <a:buSzPct val="120000"/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merican Typewriter"/>
              </a:rPr>
              <a:t>Each laptop loaded with LANrev</a:t>
            </a:r>
            <a:endParaRPr b="0" lang="en-US" sz="3900" spc="-1" strike="noStrike">
              <a:solidFill>
                <a:srgbClr val="ffffff"/>
              </a:solidFill>
              <a:latin typeface="American Typewriter"/>
            </a:endParaRPr>
          </a:p>
          <a:p>
            <a:pPr lvl="1" marL="1428840" indent="-561960">
              <a:lnSpc>
                <a:spcPct val="100000"/>
              </a:lnSpc>
              <a:spcBef>
                <a:spcPts val="3039"/>
              </a:spcBef>
              <a:buClr>
                <a:srgbClr val="ffffff"/>
              </a:buClr>
              <a:buSzPct val="120000"/>
              <a:buFont typeface="American Typewrit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merican Typewriter"/>
              </a:rPr>
              <a:t>Remote activation and tracking software</a:t>
            </a:r>
            <a:endParaRPr b="0" lang="en-US" sz="3400" spc="-1" strike="noStrike">
              <a:solidFill>
                <a:srgbClr val="ffffff"/>
              </a:solidFill>
              <a:latin typeface="American Typewriter"/>
            </a:endParaRPr>
          </a:p>
          <a:p>
            <a:pPr lvl="1" marL="1428840" indent="-561960">
              <a:lnSpc>
                <a:spcPct val="100000"/>
              </a:lnSpc>
              <a:spcBef>
                <a:spcPts val="3039"/>
              </a:spcBef>
              <a:buClr>
                <a:srgbClr val="ffffff"/>
              </a:buClr>
              <a:buSzPct val="120000"/>
              <a:buFont typeface="American Typewrit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merican Typewriter"/>
              </a:rPr>
              <a:t>Includes a feature called TheftTrack</a:t>
            </a:r>
            <a:endParaRPr b="0" lang="en-US" sz="3400" spc="-1" strike="noStrike">
              <a:solidFill>
                <a:srgbClr val="ffffff"/>
              </a:solidFill>
              <a:latin typeface="American Typewriter"/>
            </a:endParaRPr>
          </a:p>
          <a:p>
            <a:pPr lvl="1" marL="1428840" indent="-561960">
              <a:lnSpc>
                <a:spcPct val="100000"/>
              </a:lnSpc>
              <a:spcBef>
                <a:spcPts val="3039"/>
              </a:spcBef>
              <a:buClr>
                <a:srgbClr val="ffffff"/>
              </a:buClr>
              <a:buSzPct val="120000"/>
              <a:buFont typeface="American Typewrit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merican Typewriter"/>
              </a:rPr>
              <a:t>Neither parents nor students knew about this software</a:t>
            </a:r>
            <a:endParaRPr b="0" lang="en-US" sz="34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American Typewriter"/>
              </a:rPr>
              <a:t>WebcamGate</a:t>
            </a: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10845720" cy="610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9000"/>
          </a:bodyPr>
          <a:p>
            <a:pPr marL="893880" indent="-554400">
              <a:lnSpc>
                <a:spcPct val="100000"/>
              </a:lnSpc>
              <a:buClr>
                <a:srgbClr val="ffffff"/>
              </a:buClr>
              <a:buSzPct val="120000"/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merican Typewriter"/>
              </a:rPr>
              <a:t>Robbins’ family did not pay $55.00 insurance fee for possession of laptop</a:t>
            </a:r>
            <a:endParaRPr b="0" lang="en-US" sz="4000" spc="-1" strike="noStrike">
              <a:solidFill>
                <a:srgbClr val="ffffff"/>
              </a:solidFill>
              <a:latin typeface="American Typewriter"/>
            </a:endParaRPr>
          </a:p>
          <a:p>
            <a:pPr marL="893880" indent="-554400">
              <a:lnSpc>
                <a:spcPct val="100000"/>
              </a:lnSpc>
              <a:spcBef>
                <a:spcPts val="3061"/>
              </a:spcBef>
              <a:buClr>
                <a:srgbClr val="ffffff"/>
              </a:buClr>
              <a:buSzPct val="120000"/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merican Typewriter"/>
              </a:rPr>
              <a:t>Asst. Principle Matsko orders activation of TheftTrack</a:t>
            </a:r>
            <a:endParaRPr b="0" lang="en-US" sz="4000" spc="-1" strike="noStrike">
              <a:solidFill>
                <a:srgbClr val="ffffff"/>
              </a:solidFill>
              <a:latin typeface="American Typewriter"/>
            </a:endParaRPr>
          </a:p>
          <a:p>
            <a:pPr lvl="1" marL="1414440" indent="-556200">
              <a:lnSpc>
                <a:spcPct val="100000"/>
              </a:lnSpc>
              <a:spcBef>
                <a:spcPts val="3061"/>
              </a:spcBef>
              <a:buClr>
                <a:srgbClr val="ffffff"/>
              </a:buClr>
              <a:buSzPct val="120000"/>
              <a:buFont typeface="American Typewrit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merican Typewriter"/>
              </a:rPr>
              <a:t>2 hours later, laptop is confirmed at Robbins’ family residence</a:t>
            </a:r>
            <a:endParaRPr b="0" lang="en-US" sz="3400" spc="-1" strike="noStrike">
              <a:solidFill>
                <a:srgbClr val="ffffff"/>
              </a:solidFill>
              <a:latin typeface="American Typewriter"/>
            </a:endParaRPr>
          </a:p>
          <a:p>
            <a:pPr lvl="1" marL="1414440" indent="-556200">
              <a:lnSpc>
                <a:spcPct val="100000"/>
              </a:lnSpc>
              <a:spcBef>
                <a:spcPts val="3061"/>
              </a:spcBef>
              <a:buClr>
                <a:srgbClr val="ffffff"/>
              </a:buClr>
              <a:buSzPct val="120000"/>
              <a:buFont typeface="American Typewrit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merican Typewriter"/>
              </a:rPr>
              <a:t>Matsko orders TheftTrack remain active</a:t>
            </a:r>
            <a:endParaRPr b="0" lang="en-US" sz="3400" spc="-1" strike="noStrike">
              <a:solidFill>
                <a:srgbClr val="ffffff"/>
              </a:solidFill>
              <a:latin typeface="American Typewriter"/>
            </a:endParaRPr>
          </a:p>
          <a:p>
            <a:pPr lvl="1" marL="1414440" indent="-556200">
              <a:lnSpc>
                <a:spcPct val="100000"/>
              </a:lnSpc>
              <a:spcBef>
                <a:spcPts val="3061"/>
              </a:spcBef>
              <a:buClr>
                <a:srgbClr val="ffffff"/>
              </a:buClr>
              <a:buSzPct val="120000"/>
              <a:buFont typeface="American Typewrit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merican Typewriter"/>
              </a:rPr>
              <a:t>TheftTrack remains active for next 15 days</a:t>
            </a:r>
            <a:endParaRPr b="0" lang="en-US" sz="34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American Typewriter"/>
              </a:rPr>
              <a:t>WebcamGate</a:t>
            </a: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10845720" cy="610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903240" indent="-560160">
              <a:lnSpc>
                <a:spcPct val="100000"/>
              </a:lnSpc>
              <a:spcBef>
                <a:spcPts val="3200"/>
              </a:spcBef>
              <a:buClr>
                <a:srgbClr val="ffffff"/>
              </a:buClr>
              <a:buSzPct val="120000"/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merican Typewriter"/>
              </a:rPr>
              <a:t>Robbins is called into Matsko’s office</a:t>
            </a: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  <a:p>
            <a:pPr marL="903240" indent="-560160">
              <a:lnSpc>
                <a:spcPct val="100000"/>
              </a:lnSpc>
              <a:spcBef>
                <a:spcPts val="3200"/>
              </a:spcBef>
              <a:buClr>
                <a:srgbClr val="ffffff"/>
              </a:buClr>
              <a:buSzPct val="120000"/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merican Typewriter"/>
              </a:rPr>
              <a:t>Matsko cites one of hundreds of photos taken as proof of “improper behavior”</a:t>
            </a: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  <a:p>
            <a:pPr marL="903240" indent="-560160">
              <a:lnSpc>
                <a:spcPct val="100000"/>
              </a:lnSpc>
              <a:spcBef>
                <a:spcPts val="3200"/>
              </a:spcBef>
              <a:buClr>
                <a:srgbClr val="ffffff"/>
              </a:buClr>
              <a:buSzPct val="120000"/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merican Typewriter"/>
              </a:rPr>
              <a:t>Issues disciplinary action as result of “improper behavior”</a:t>
            </a: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  <a:p>
            <a:pPr marL="903240" indent="-560160">
              <a:lnSpc>
                <a:spcPct val="100000"/>
              </a:lnSpc>
              <a:spcBef>
                <a:spcPts val="3200"/>
              </a:spcBef>
              <a:buClr>
                <a:srgbClr val="ffffff"/>
              </a:buClr>
              <a:buSzPct val="120000"/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merican Typewriter"/>
              </a:rPr>
              <a:t>Robbins family files suit against LMSD</a:t>
            </a: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American Typewriter"/>
              </a:rPr>
              <a:t>What was the “improper behavior”?</a:t>
            </a: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pic>
        <p:nvPicPr>
          <p:cNvPr id="501" name="" descr=""/>
          <p:cNvPicPr/>
          <p:nvPr/>
        </p:nvPicPr>
        <p:blipFill>
          <a:blip r:embed="rId2"/>
          <a:stretch/>
        </p:blipFill>
        <p:spPr>
          <a:xfrm>
            <a:off x="3949560" y="2514600"/>
            <a:ext cx="5106960" cy="5003640"/>
          </a:xfrm>
          <a:prstGeom prst="rect">
            <a:avLst/>
          </a:prstGeom>
          <a:ln w="0">
            <a:noFill/>
          </a:ln>
        </p:spPr>
      </p:pic>
      <p:sp>
        <p:nvSpPr>
          <p:cNvPr id="502" name=""/>
          <p:cNvSpPr/>
          <p:nvPr/>
        </p:nvSpPr>
        <p:spPr>
          <a:xfrm>
            <a:off x="1101960" y="4571640"/>
            <a:ext cx="17121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merican Typewriter"/>
                <a:ea typeface="American Typewriter"/>
              </a:rPr>
              <a:t>Candy?</a:t>
            </a:r>
            <a:endParaRPr b="0" lang="en-US" sz="4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503" name=""/>
          <p:cNvSpPr/>
          <p:nvPr/>
        </p:nvSpPr>
        <p:spPr>
          <a:xfrm>
            <a:off x="9716040" y="4711320"/>
            <a:ext cx="2746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merican Typewriter"/>
                <a:ea typeface="American Typewriter"/>
              </a:rPr>
              <a:t>Illegal Pills?</a:t>
            </a:r>
            <a:endParaRPr b="0" lang="en-US" sz="40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American Typewriter"/>
              </a:rPr>
              <a:t>Class-Action Lawsuit</a:t>
            </a: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10845720" cy="610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9000"/>
          </a:bodyPr>
          <a:p>
            <a:pPr marL="893880" indent="-554400">
              <a:lnSpc>
                <a:spcPct val="100000"/>
              </a:lnSpc>
              <a:buClr>
                <a:srgbClr val="ffffff"/>
              </a:buClr>
              <a:buSzPct val="120000"/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merican Typewriter"/>
              </a:rPr>
              <a:t>Alleged LMSD violated:</a:t>
            </a:r>
            <a:endParaRPr b="0" lang="en-US" sz="2900" spc="-1" strike="noStrike">
              <a:solidFill>
                <a:srgbClr val="ffffff"/>
              </a:solidFill>
              <a:latin typeface="American Typewriter"/>
            </a:endParaRPr>
          </a:p>
          <a:p>
            <a:pPr lvl="1" marL="1414440" indent="-556200">
              <a:lnSpc>
                <a:spcPct val="100000"/>
              </a:lnSpc>
              <a:spcBef>
                <a:spcPts val="2262"/>
              </a:spcBef>
              <a:buClr>
                <a:srgbClr val="ffffff"/>
              </a:buClr>
              <a:buSzPct val="120000"/>
              <a:buFont typeface="American Typewrit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merican Typewriter"/>
              </a:rPr>
              <a:t>4th Amendment of US Constitution</a:t>
            </a:r>
            <a:endParaRPr b="0" lang="en-US" sz="2900" spc="-1" strike="noStrike">
              <a:solidFill>
                <a:srgbClr val="ffffff"/>
              </a:solidFill>
              <a:latin typeface="American Typewriter"/>
            </a:endParaRPr>
          </a:p>
          <a:p>
            <a:pPr lvl="1" marL="1414440" indent="-556200">
              <a:lnSpc>
                <a:spcPct val="100000"/>
              </a:lnSpc>
              <a:spcBef>
                <a:spcPts val="2262"/>
              </a:spcBef>
              <a:buClr>
                <a:srgbClr val="ffffff"/>
              </a:buClr>
              <a:buSzPct val="120000"/>
              <a:buFont typeface="American Typewrit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merican Typewriter"/>
              </a:rPr>
              <a:t>PA Common Law</a:t>
            </a:r>
            <a:endParaRPr b="0" lang="en-US" sz="2900" spc="-1" strike="noStrike">
              <a:solidFill>
                <a:srgbClr val="ffffff"/>
              </a:solidFill>
              <a:latin typeface="American Typewriter"/>
            </a:endParaRPr>
          </a:p>
          <a:p>
            <a:pPr lvl="1" marL="1414440" indent="-556200">
              <a:lnSpc>
                <a:spcPct val="100000"/>
              </a:lnSpc>
              <a:spcBef>
                <a:spcPts val="2262"/>
              </a:spcBef>
              <a:buClr>
                <a:srgbClr val="ffffff"/>
              </a:buClr>
              <a:buSzPct val="120000"/>
              <a:buFont typeface="American Typewrit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merican Typewriter"/>
              </a:rPr>
              <a:t>Section 1983 of US Civil Rights Act</a:t>
            </a:r>
            <a:endParaRPr b="0" lang="en-US" sz="2900" spc="-1" strike="noStrike">
              <a:solidFill>
                <a:srgbClr val="ffffff"/>
              </a:solidFill>
              <a:latin typeface="American Typewriter"/>
            </a:endParaRPr>
          </a:p>
          <a:p>
            <a:pPr marL="893880" indent="-554400">
              <a:lnSpc>
                <a:spcPct val="100000"/>
              </a:lnSpc>
              <a:spcBef>
                <a:spcPts val="2262"/>
              </a:spcBef>
              <a:buClr>
                <a:srgbClr val="ffffff"/>
              </a:buClr>
              <a:buSzPct val="120000"/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merican Typewriter"/>
              </a:rPr>
              <a:t>As well as:</a:t>
            </a:r>
            <a:endParaRPr b="0" lang="en-US" sz="2900" spc="-1" strike="noStrike">
              <a:solidFill>
                <a:srgbClr val="ffffff"/>
              </a:solidFill>
              <a:latin typeface="American Typewriter"/>
            </a:endParaRPr>
          </a:p>
          <a:p>
            <a:pPr lvl="1" marL="1414440" indent="-556200">
              <a:lnSpc>
                <a:spcPct val="100000"/>
              </a:lnSpc>
              <a:spcBef>
                <a:spcPts val="2262"/>
              </a:spcBef>
              <a:buClr>
                <a:srgbClr val="ffffff"/>
              </a:buClr>
              <a:buSzPct val="120000"/>
              <a:buFont typeface="American Typewrit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merican Typewriter"/>
              </a:rPr>
              <a:t>U.S. Electronic Communications Privacy Act</a:t>
            </a:r>
            <a:endParaRPr b="0" lang="en-US" sz="2500" spc="-1" strike="noStrike">
              <a:solidFill>
                <a:srgbClr val="ffffff"/>
              </a:solidFill>
              <a:latin typeface="American Typewriter"/>
            </a:endParaRPr>
          </a:p>
          <a:p>
            <a:pPr lvl="1" marL="1414440" indent="-556200">
              <a:lnSpc>
                <a:spcPct val="100000"/>
              </a:lnSpc>
              <a:spcBef>
                <a:spcPts val="2262"/>
              </a:spcBef>
              <a:buClr>
                <a:srgbClr val="ffffff"/>
              </a:buClr>
              <a:buSzPct val="120000"/>
              <a:buFont typeface="American Typewrit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merican Typewriter"/>
              </a:rPr>
              <a:t>Computer Fraud and Abuse Act</a:t>
            </a:r>
            <a:endParaRPr b="0" lang="en-US" sz="2500" spc="-1" strike="noStrike">
              <a:solidFill>
                <a:srgbClr val="ffffff"/>
              </a:solidFill>
              <a:latin typeface="American Typewriter"/>
            </a:endParaRPr>
          </a:p>
          <a:p>
            <a:pPr lvl="1" marL="1414440" indent="-556200">
              <a:lnSpc>
                <a:spcPct val="100000"/>
              </a:lnSpc>
              <a:spcBef>
                <a:spcPts val="2262"/>
              </a:spcBef>
              <a:buClr>
                <a:srgbClr val="ffffff"/>
              </a:buClr>
              <a:buSzPct val="120000"/>
              <a:buFont typeface="American Typewrit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merican Typewriter"/>
              </a:rPr>
              <a:t>Stored Communications Act</a:t>
            </a:r>
            <a:endParaRPr b="0" lang="en-US" sz="2500" spc="-1" strike="noStrike">
              <a:solidFill>
                <a:srgbClr val="ffffff"/>
              </a:solidFill>
              <a:latin typeface="American Typewriter"/>
            </a:endParaRPr>
          </a:p>
          <a:p>
            <a:pPr lvl="1" marL="1414440" indent="-556200">
              <a:lnSpc>
                <a:spcPct val="100000"/>
              </a:lnSpc>
              <a:spcBef>
                <a:spcPts val="2262"/>
              </a:spcBef>
              <a:buClr>
                <a:srgbClr val="ffffff"/>
              </a:buClr>
              <a:buSzPct val="120000"/>
              <a:buFont typeface="American Typewrit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merican Typewriter"/>
              </a:rPr>
              <a:t>PA Wiretapping and Electronic Surveillance Act</a:t>
            </a:r>
            <a:endParaRPr b="0" lang="en-US" sz="25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American Typewriter"/>
              </a:rPr>
              <a:t>Outcome</a:t>
            </a: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079280" y="2526840"/>
            <a:ext cx="10845720" cy="610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8000"/>
          </a:bodyPr>
          <a:p>
            <a:pPr marL="884880" indent="-548640">
              <a:lnSpc>
                <a:spcPct val="100000"/>
              </a:lnSpc>
              <a:buClr>
                <a:srgbClr val="ffffff"/>
              </a:buClr>
              <a:buSzPct val="120000"/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merican Typewriter"/>
              </a:rPr>
              <a:t>Discovery of 66,503 recoverable* photos and screen captures </a:t>
            </a:r>
            <a:endParaRPr b="0" lang="en-US" sz="3200" spc="-1" strike="noStrike">
              <a:solidFill>
                <a:srgbClr val="ffffff"/>
              </a:solidFill>
              <a:latin typeface="American Typewriter"/>
            </a:endParaRPr>
          </a:p>
          <a:p>
            <a:pPr marL="884880" indent="-548640">
              <a:lnSpc>
                <a:spcPct val="100000"/>
              </a:lnSpc>
              <a:spcBef>
                <a:spcPts val="2463"/>
              </a:spcBef>
              <a:buClr>
                <a:srgbClr val="ffffff"/>
              </a:buClr>
              <a:buSzPct val="120000"/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merican Typewriter"/>
              </a:rPr>
              <a:t>Judge ordered ban of LMSD use of surveillance software</a:t>
            </a:r>
            <a:endParaRPr b="0" lang="en-US" sz="3200" spc="-1" strike="noStrike">
              <a:solidFill>
                <a:srgbClr val="ffffff"/>
              </a:solidFill>
              <a:latin typeface="American Typewriter"/>
            </a:endParaRPr>
          </a:p>
          <a:p>
            <a:pPr marL="884880" indent="-548640">
              <a:lnSpc>
                <a:spcPct val="100000"/>
              </a:lnSpc>
              <a:spcBef>
                <a:spcPts val="2463"/>
              </a:spcBef>
              <a:buClr>
                <a:srgbClr val="ffffff"/>
              </a:buClr>
              <a:buSzPct val="120000"/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merican Typewriter"/>
              </a:rPr>
              <a:t>Settlement of $610,000 paid by LMSD</a:t>
            </a:r>
            <a:endParaRPr b="0" lang="en-US" sz="3200" spc="-1" strike="noStrike">
              <a:solidFill>
                <a:srgbClr val="ffffff"/>
              </a:solidFill>
              <a:latin typeface="American Typewriter"/>
            </a:endParaRPr>
          </a:p>
          <a:p>
            <a:pPr marL="884880" indent="-548640">
              <a:lnSpc>
                <a:spcPct val="100000"/>
              </a:lnSpc>
              <a:spcBef>
                <a:spcPts val="2463"/>
              </a:spcBef>
              <a:buClr>
                <a:srgbClr val="ffffff"/>
              </a:buClr>
              <a:buSzPct val="120000"/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merican Typewriter"/>
              </a:rPr>
              <a:t>Various LMSD officials admission to “serious mistakes,” “misguided actions,” and “a big, big horrible error in judgement.”</a:t>
            </a:r>
            <a:endParaRPr b="0" lang="en-US" sz="3200" spc="-1" strike="noStrike">
              <a:solidFill>
                <a:srgbClr val="ffffff"/>
              </a:solidFill>
              <a:latin typeface="American Typewriter"/>
            </a:endParaRPr>
          </a:p>
          <a:p>
            <a:pPr marL="884880" indent="-548640">
              <a:lnSpc>
                <a:spcPct val="100000"/>
              </a:lnSpc>
              <a:spcBef>
                <a:spcPts val="2463"/>
              </a:spcBef>
              <a:buClr>
                <a:srgbClr val="ffffff"/>
              </a:buClr>
              <a:buSzPct val="120000"/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merican Typewriter"/>
              </a:rPr>
              <a:t>LANrev’s denouncement and discontinuation of TheftTrack</a:t>
            </a:r>
            <a:endParaRPr b="0" lang="en-US" sz="3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